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53DB-755C-4246-A9EE-9B30A5FC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8BDF-31D0-4029-A77B-62824D2A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2AF4-2AAA-4DFB-810B-694A4E12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32B4-A8D4-43D7-8E62-D17CC8DE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5FC0-4FCF-4123-804D-B19280A5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DF50-3056-401D-828A-7A096E2D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0452-4893-456C-8A3E-A05ABC1A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61A8-19BF-4529-8323-5BFCBF4B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5A83-63D2-460D-9F2A-48AFA4E9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A905-E88A-485D-9FC4-EAF8BD73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D98B-93A8-47FF-AB8C-2BCC6BF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2201C-9C69-431C-8468-B6A4A110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8153-9466-4C3D-AC75-909E7F2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5FD3-179D-4220-9B76-F344AB4A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981D-7B0A-43A2-99A9-6FEC3934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9749-64EC-433B-99A3-1A1067D0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C95C-992F-4092-8C94-E4BA29C2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9114-6D91-406A-8D04-50DE0AEB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E0EB-5B6C-4E16-BF35-4C567AA4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34C0-D796-4394-8EAF-1B4BBB5B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1713-011F-4B76-B38B-9F12F26B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5917-2A8A-46AC-94AF-17C3ACEA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902C-ECC1-4497-85FD-9C1685D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FEFE-4BBA-48D2-9A02-F326E6B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6962-D4BB-40B3-A72E-90555FFA64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C146-4360-47F3-AA75-7E054EDD5F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ample O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4800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ss to Star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142704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o was the first President of the United Sta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048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38098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648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2400" y="23353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ll Clin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37640" y="309708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eorge B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69240" y="388620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eorge Washing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1280" y="472428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immy Ca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5146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50680" y="16002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+ 1 =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2767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114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48769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0600" y="2590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24760" y="32558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40600" y="4114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00720" y="4856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eedbac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962520"/>
            <a:ext cx="2057400" cy="914400"/>
          </a:xfrm>
          <a:custGeom>
            <a:avLst/>
            <a:gdLst>
              <a:gd name="textAreaLeft" fmla="*/ 59040 w 2057400"/>
              <a:gd name="textAreaRight" fmla="*/ 1998360 w 2057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8589" h="21600">
                <a:moveTo>
                  <a:pt x="0" y="0"/>
                </a:moveTo>
                <a:lnTo>
                  <a:pt x="48589" y="0"/>
                </a:lnTo>
                <a:lnTo>
                  <a:pt x="48589" y="21600"/>
                </a:lnTo>
                <a:lnTo>
                  <a:pt x="0" y="21600"/>
                </a:lnTo>
                <a:close/>
              </a:path>
              <a:path fill="lightenLess" w="48589" h="21600">
                <a:moveTo>
                  <a:pt x="0" y="0"/>
                </a:moveTo>
                <a:lnTo>
                  <a:pt x="48589" y="0"/>
                </a:lnTo>
                <a:lnTo>
                  <a:pt x="47189" y="1400"/>
                </a:lnTo>
                <a:lnTo>
                  <a:pt x="1400" y="1400"/>
                </a:lnTo>
                <a:close/>
              </a:path>
              <a:path fill="darken" w="48589" h="21600">
                <a:moveTo>
                  <a:pt x="48589" y="0"/>
                </a:moveTo>
                <a:lnTo>
                  <a:pt x="48589" y="21600"/>
                </a:lnTo>
                <a:lnTo>
                  <a:pt x="47189" y="20200"/>
                </a:lnTo>
                <a:lnTo>
                  <a:pt x="47189" y="1400"/>
                </a:lnTo>
                <a:close/>
              </a:path>
              <a:path fill="darkenLess" w="48589" h="21600">
                <a:moveTo>
                  <a:pt x="48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9" y="20200"/>
                </a:lnTo>
                <a:close/>
              </a:path>
              <a:path fill="lighten" w="48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y Sc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3:52:08Z</dcterms:created>
  <dc:creator>jnatale</dc:creator>
  <dc:description/>
  <dc:language>en-US</dc:language>
  <cp:lastModifiedBy>jnatale</cp:lastModifiedBy>
  <dcterms:modified xsi:type="dcterms:W3CDTF">2009-02-19T14:35:27Z</dcterms:modified>
  <cp:revision>5</cp:revision>
  <dc:subject/>
  <dc:title>Example One</dc:title>
</cp:coreProperties>
</file>